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2EE4E7-F2AC-4579-A42B-79DA68364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4CA458-B2F9-4707-BC98-50819DC17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04E11F-3AB5-4D7D-9F84-540041E37D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6E54C3-58C8-4F43-92D1-97FF970682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1C6EA-25E4-4CFF-85BA-FEB6F4AB9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F6395-64A7-4B2A-8596-AEA8003AA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469FC-CCD0-4363-8CAB-E9C3C076A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86387-B73F-4486-80BA-AE9F3DEF2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99D5D-B11F-4C55-9664-7279B9462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20B3F-FD70-4C66-BA61-8BDEA3AE5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34494-9497-4CFB-B381-63F6471D1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2D56D7-10B2-4684-AD2F-6A2F056717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CF409-BAF4-4DD1-AFFC-CC3B5F2E7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B83C3-3C5B-43A8-B216-F2F35F60A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77170-93C5-4E24-9320-75173C08D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C9F58-4A48-406A-9C56-EED6EC4B1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D6340-9436-46E9-A08D-9294114F5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3B82B8-7F00-4ABB-9EF1-A463B8A1A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01992D-32F5-4874-B3EA-80CE6802B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709B08-3A65-453C-867B-BD3D24426E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6C056D-189D-4E33-B071-243A3249F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907AFE-8A3E-44BB-AE2F-8EDD66369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CE3E31-2D9E-471F-AF9D-470915AAE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E116BC-C390-43AC-82C2-CEBC29F287E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33AE-1BCD-4397-807D-372054590C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FD4B-27A8-4DED-AFAC-D899F21FD0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Introduction to Quality Metrics - 3</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43</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DDB282E-5CF6-4398-9B5B-503571C697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 simple spell check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30DC4C-80B7-4077-B8E7-438E66A9F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 Inputs</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se items provided by the user that describe distinct application-oriented data (such as file names and menu selections). These items do not include inquiries, which are counted separatel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t>
            </a:r>
            <a:r>
              <a:rPr b="0" i="1" lang="en-US" sz="3200" spc="-1" strike="noStrike">
                <a:solidFill>
                  <a:srgbClr val="000000"/>
                </a:solidFill>
                <a:latin typeface="Arial"/>
              </a:rPr>
              <a:t>document filename</a:t>
            </a:r>
            <a:r>
              <a:rPr b="0" lang="en-US" sz="3200" spc="-1" strike="noStrike">
                <a:solidFill>
                  <a:srgbClr val="000000"/>
                </a:solidFill>
                <a:latin typeface="Arial"/>
              </a:rPr>
              <a:t>, </a:t>
            </a:r>
            <a:r>
              <a:rPr b="0" i="1" lang="en-US" sz="3200" spc="-1" strike="noStrike">
                <a:solidFill>
                  <a:srgbClr val="000000"/>
                </a:solidFill>
                <a:latin typeface="Arial"/>
              </a:rPr>
              <a:t>personal dictionary-nam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A3AD37-F87A-40AE-B539-5F6BE41AC1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 Outputs</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se items provided to the user that generate distinct application-oriented data (such as reports and messages, rather than the individual components of the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t>
            </a:r>
            <a:r>
              <a:rPr b="0" i="1" lang="en-US" sz="3200" spc="-1" strike="noStrike">
                <a:solidFill>
                  <a:srgbClr val="000000"/>
                </a:solidFill>
                <a:latin typeface="Arial"/>
              </a:rPr>
              <a:t>misspelled word report</a:t>
            </a:r>
            <a:r>
              <a:rPr b="0" lang="en-US" sz="3200" spc="-1" strike="noStrike">
                <a:solidFill>
                  <a:srgbClr val="000000"/>
                </a:solidFill>
                <a:latin typeface="Arial"/>
              </a:rPr>
              <a:t>, </a:t>
            </a:r>
            <a:r>
              <a:rPr b="0" i="1" lang="en-US" sz="3200" spc="-1" strike="noStrike">
                <a:solidFill>
                  <a:srgbClr val="000000"/>
                </a:solidFill>
                <a:latin typeface="Arial"/>
              </a:rPr>
              <a:t>number-of-words-processed message</a:t>
            </a:r>
            <a:r>
              <a:rPr b="0" lang="en-US" sz="3200" spc="-1" strike="noStrike">
                <a:solidFill>
                  <a:srgbClr val="000000"/>
                </a:solidFill>
                <a:latin typeface="Arial"/>
              </a:rPr>
              <a:t>, </a:t>
            </a:r>
            <a:r>
              <a:rPr b="0" i="1" lang="en-US" sz="3200" spc="-1" strike="noStrike">
                <a:solidFill>
                  <a:srgbClr val="000000"/>
                </a:solidFill>
                <a:latin typeface="Arial"/>
              </a:rPr>
              <a:t>number-of-errors-so-far messa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C970B9-5D3D-49B0-A454-A35D3BBC05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 Inquirie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inputs requiring a respon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t>
            </a:r>
            <a:r>
              <a:rPr b="0" i="1" lang="en-US" sz="3200" spc="-1" strike="noStrike">
                <a:solidFill>
                  <a:srgbClr val="000000"/>
                </a:solidFill>
                <a:latin typeface="Arial"/>
              </a:rPr>
              <a:t>words processed</a:t>
            </a:r>
            <a:r>
              <a:rPr b="0" lang="en-US" sz="3200" spc="-1" strike="noStrike">
                <a:solidFill>
                  <a:srgbClr val="000000"/>
                </a:solidFill>
                <a:latin typeface="Arial"/>
              </a:rPr>
              <a:t>, </a:t>
            </a:r>
            <a:r>
              <a:rPr b="0" i="1" lang="en-US" sz="3200" spc="-1" strike="noStrike">
                <a:solidFill>
                  <a:srgbClr val="000000"/>
                </a:solidFill>
                <a:latin typeface="Arial"/>
              </a:rPr>
              <a:t>errors so fa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05B7E4-AAAE-4411-8D9F-032994973A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 Files</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readable interfaces to other syste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t>
            </a:r>
            <a:r>
              <a:rPr b="0" i="1" lang="en-US" sz="3200" spc="-1" strike="noStrike">
                <a:solidFill>
                  <a:srgbClr val="000000"/>
                </a:solidFill>
                <a:latin typeface="Arial"/>
              </a:rPr>
              <a:t>document file</a:t>
            </a:r>
            <a:r>
              <a:rPr b="0" lang="en-US" sz="3200" spc="-1" strike="noStrike">
                <a:solidFill>
                  <a:srgbClr val="000000"/>
                </a:solidFill>
                <a:latin typeface="Arial"/>
              </a:rPr>
              <a:t>, </a:t>
            </a:r>
            <a:r>
              <a:rPr b="0" i="1" lang="en-US" sz="3200" spc="-1" strike="noStrike">
                <a:solidFill>
                  <a:srgbClr val="000000"/>
                </a:solidFill>
                <a:latin typeface="Arial"/>
              </a:rPr>
              <a:t>personal diction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AE0B0B-2147-4E71-933D-905CB8D60A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Files</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cal master files in the syst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t>
            </a:r>
            <a:r>
              <a:rPr b="0" i="1" lang="en-US" sz="3200" spc="-1" strike="noStrike">
                <a:solidFill>
                  <a:srgbClr val="000000"/>
                </a:solidFill>
                <a:latin typeface="Arial"/>
              </a:rPr>
              <a:t>diction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CEC1FD-A08E-4574-8169-6D376D89C5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s - 8</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item/component is assigned a subjective “complexity” rating on a three point ordinal scale: “simple”, “average”, or “comple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 weight is assigned to the item according to the following tab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9EB3EE-23D1-4AFF-9B01-1559CDC1B0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P Complexity Weights</a:t>
            </a:r>
            <a:endParaRPr b="0" lang="en-US" sz="4400" spc="-1" strike="noStrike">
              <a:solidFill>
                <a:srgbClr val="000000"/>
              </a:solidFill>
              <a:latin typeface="Arial"/>
            </a:endParaRPr>
          </a:p>
        </p:txBody>
      </p:sp>
      <p:graphicFrame>
        <p:nvGraphicFramePr>
          <p:cNvPr id="139" name=""/>
          <p:cNvGraphicFramePr/>
          <p:nvPr/>
        </p:nvGraphicFramePr>
        <p:xfrm>
          <a:off x="457200" y="1981080"/>
          <a:ext cx="8229600" cy="341640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ing Factor Avera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x</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nput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Output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3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nquiri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fi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4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fi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A744C21-D2C7-4918-B625-B0C1477FFE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s - 9</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lexity classification of each component is based on a set of standards that define complexity in terms of objective guidelines</a:t>
            </a: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nstance, for the external output component, if the number of data element types is 20 or more and the number of file types referenced is two or more, then complexity is high</a:t>
            </a: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number of data element types is 5 or fewer and the number of file types referenced is two to thre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B786A2-0CDA-45D2-9D11-3DBDF75F38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s - 10</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weighting factors, the first step is to calculate the Unadjusted function counts (UFC) based on the formula, which is obtained by the by multiplying the weighting factors with the corresponding components, and adding them up</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ifteen (15) different varieties of items/components – in theo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05D279-9979-4E24-92DD-7F58B18262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s - 1</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ly, lines of code count have been used to measure software siz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 count is only one of the operational definitions of size and due to lack of standardization in LOC counting and the resulting variations in actual practices, alternative measures were investigat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such measure is function poin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8D2C14-B86D-426B-9F39-08F0E85DBD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djusted Function Counts</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FC = sum((Number of items of variety i) * weight(i))</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 1..1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A654CF-C8AD-4E18-9410-1450DF96F6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s - 11</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lculate an adjusted function point count, FP, by multiplying UFC by a technical complexity factor, TCF</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chnical involves the 14 contributing facto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EC224E-E04B-4541-B785-D432012909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s of the Technical Complexity Factor</a:t>
            </a:r>
            <a:endParaRPr b="0" lang="en-US" sz="4000" spc="-1" strike="noStrike">
              <a:solidFill>
                <a:srgbClr val="000000"/>
              </a:solidFill>
              <a:latin typeface="Arial"/>
            </a:endParaRPr>
          </a:p>
        </p:txBody>
      </p:sp>
      <p:graphicFrame>
        <p:nvGraphicFramePr>
          <p:cNvPr id="149" name=""/>
          <p:cNvGraphicFramePr/>
          <p:nvPr/>
        </p:nvGraphicFramePr>
        <p:xfrm>
          <a:off x="457200" y="1981080"/>
          <a:ext cx="8229240" cy="3886200"/>
        </p:xfrm>
        <a:graphic>
          <a:graphicData uri="http://schemas.openxmlformats.org/drawingml/2006/table">
            <a:tbl>
              <a:tblPr/>
              <a:tblGrid>
                <a:gridCol w="4114440"/>
                <a:gridCol w="4114800"/>
              </a:tblGrid>
              <a:tr h="55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le back-up and recove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ommunicatio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6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functi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vily used configur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data entr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ea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upda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interfa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process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usabilit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ea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sit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chan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85923765-E557-4C2D-8C08-5531584E27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s - 12</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ores (ranging from 0 to 5) for these characteristics are then summed, based on the following formula, to form the technical complexity factor (TCF)</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74248C-5093-49AD-A204-67BD2FB4AA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Complexity Factor</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F = 0.65 + 0.01 * (complexity of item i)</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 = 1 to 14</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2053CF-27C0-4167-AF89-AEBFF7B1BC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s - 13</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the number of function points is obtained by multiplying unadjusted function counts and the value adjustment facto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68146B-DD77-4F5D-879E-89F2951CC4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FP = UFC * TCF</a:t>
            </a:r>
            <a:endParaRPr b="0" lang="en-US" sz="5000" spc="-1" strike="noStrike">
              <a:solidFill>
                <a:srgbClr val="ffffff"/>
              </a:solidFill>
              <a:latin typeface="Arial"/>
            </a:endParaRPr>
          </a:p>
        </p:txBody>
      </p:sp>
      <p:sp>
        <p:nvSpPr>
          <p:cNvPr id="15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5BD2B03-4C41-49A5-B3E8-FF67A4112D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the years, the function point metric has gained acceptance as a key productivity measure in the application world</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86 the IFPUG was established. The IFPUG counting practices committee is the </a:t>
            </a:r>
            <a:r>
              <a:rPr b="0" i="1" lang="en-US" sz="3200" spc="-1" strike="noStrike">
                <a:solidFill>
                  <a:srgbClr val="000000"/>
                </a:solidFill>
                <a:latin typeface="Arial"/>
              </a:rPr>
              <a:t>de facto</a:t>
            </a:r>
            <a:r>
              <a:rPr b="0" lang="en-US" sz="3200" spc="-1" strike="noStrike">
                <a:solidFill>
                  <a:srgbClr val="000000"/>
                </a:solidFill>
                <a:latin typeface="Arial"/>
              </a:rPr>
              <a:t> standards organization for function point counting metho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E02363-9238-49DA-B810-8578168B0F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with Function Points - 1</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with subjectivity in the technology fac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with double-coun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with accuracy of TCF</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with early life-cycle u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with changing require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92F4CC-0EAF-4EF8-9BC4-624DB9B7A5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with Function Points - 2</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with methodology depende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with application doma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with subjective weight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9E171C-FDCA-441D-85F6-C4818B8A72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s - 2</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ly function points are gaining in popularity, based on the availability of industry data</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using function points is in the consistency of the metric</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use lines of code to compare ourselves to other organizations we face the problems associated with the inconsistencies in counting lines of co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8710A5-F9F7-4022-9E0F-A67AEC4EF9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omplexity</a:t>
            </a:r>
            <a:endParaRPr b="0" lang="en-US" sz="5000" spc="-1" strike="noStrike">
              <a:solidFill>
                <a:srgbClr val="ffffff"/>
              </a:solidFill>
              <a:latin typeface="Arial"/>
            </a:endParaRPr>
          </a:p>
        </p:txBody>
      </p:sp>
      <p:sp>
        <p:nvSpPr>
          <p:cNvPr id="16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y few words on complexity</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C2FA0C4-8980-43FA-A5B7-E068C0C3A9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ity - 1</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we would like the complexity of the solution to be no greater than the complexity of the problem, but that is not always the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B65EE9-B508-4512-8A9C-BD45622610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ity - 2</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lexity of a problem as the amount of resources required for an optimal solution to the probl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lexity of a solution can be regarded in terms of the resources needed to implement a particular solu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D19604-A41D-4A4C-BB4B-F6BA7C13C9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ity - 3</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complexit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 resource is computer time</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e complexit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 resource is computer memor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B5E257-59F4-4176-8FFC-25D78963C7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ity - 4</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complex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ic complex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 complex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 complex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2DB657-0809-4045-B2AA-18996E811E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Complexity</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he complexity of the underlying probl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lso known as computational complexity by computer scientis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D0FBDB-0A2D-412C-8358-ED70E53F6B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hmic Complexity</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s the complexity of the algorithm implemented to solve the problem; in some sense, this type of complexity measures the efficiency of the softwa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Big-O notation to determine the complexity of algorith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7C3A3A-50B0-42A4-9767-AB64584148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Complexity</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he structure of the software used to implement the algorith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we look at control flow structure, hierarchical structure, and modular structure to extract this type of measu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C31614-B7B1-4C42-9C13-BAEEE520C1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Measures - 1</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ther things being equal, we would like to assume that a large module takes longer to specify, design, code, and test than a small one. But experience shows us that such an assumption is not valid; the structure of the product plays a part, not only in requiring development effort but also in how the product is maintain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B63BCB-B806-414F-A6DC-B747039481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Measures - 2</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ust investigate characteristics of product structure, and determine how they affect the outcomes we seek</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 has three pa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flow structur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flow structur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tructu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EE1F63-833D-4583-98D8-1991F16846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s - 3</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language complexity levels and inconsistency in counting rules quickly lead us to conclude that line of code counting, even within an organization, can be problematic and ineffectiv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the case with function poi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81A851-73C8-4B48-8AAE-0FCC5CD091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Flow Structure</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trol-flow addresses the sequence in which instructions are executed in a program. This aspect of structure reflects the iterative and looping nature of programs. Whereas size counts an instruction just once, control flow makes more visible the fact an instruction may be executed many times as the program is actually ru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BA7D34-A237-4929-83E3-FBAD3930CB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Flow Structure</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low follows the trail of a data item as it is created or handled by a program. Many times, the transactions applied to data are more complex than the instructions that implement them; data-flow measures depict the behavior of the data as it interacts with the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A1FD53-3B96-4350-A0A3-90E8C3B123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tructure</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tructure is the organization of the data itself, independent of the program. When data elements are arranged as lists, queues, stacks, or other well-defined structure, the algorithms for creating, modifying, or deleting them are more likely to be well-defined, too. So the structure of the data tells us a great deal about the difficulty involved in writing programs to handle the data, and in defining test cases for verifying that the programs are correc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a program is complex due to a complex data structure rather than complex control or data flow</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BE88BA-F3BB-4B75-8C7D-3959FF5B27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Flow Structure - 1</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trol flow measures are usually modeled with directed graphs, where each node (or point) corresponds to a program statement, and each arc (or directed edge) indicates the flow of control from one statement to another</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directed graphs are called control-flow graphs or flowgraph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2D4604-37C4-4C6C-AB6F-52FB989EE0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Flow Structure - 2</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gree (Fan-in)</a:t>
            </a:r>
            <a:endParaRPr b="0" lang="en-US" sz="28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nt of the number of modules that call a given module</a:t>
            </a:r>
            <a:endParaRPr b="0" lang="en-US" sz="24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degree (Fan-out)</a:t>
            </a:r>
            <a:endParaRPr b="0" lang="en-US" sz="28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nt of the number of modules that are called by a given module</a:t>
            </a:r>
            <a:endParaRPr b="0" lang="en-US" sz="24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a:t>
            </a:r>
            <a:endParaRPr b="0" lang="en-US" sz="28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quence of consecutive (directed) edges, some of which may be traversed more than once during the sequence</a:t>
            </a:r>
            <a:endParaRPr b="0" lang="en-US" sz="24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pat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4EBC12-C3DD-470C-BF0D-1A27BC355E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Flow Structure - 3</a:t>
            </a: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es that have large fan-in or large fan-out may indicate a poor design. Such modules have probably not been decomposed correctly and are candidates for redesig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5CBD9A-49C4-4861-9EC5-F435F596B2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gnitive Complexity</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he effort required to understand the softwa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DEC5BE-AD07-47F6-A31E-70A9EB6D56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yclomatic Complexity</a:t>
            </a:r>
            <a:endParaRPr b="0" lang="en-US" sz="5000" spc="-1" strike="noStrike">
              <a:solidFill>
                <a:srgbClr val="ffffff"/>
              </a:solidFill>
              <a:latin typeface="Arial"/>
            </a:endParaRPr>
          </a:p>
        </p:txBody>
      </p:sp>
      <p:sp>
        <p:nvSpPr>
          <p:cNvPr id="19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893DB21-08A0-4B5F-A225-101EDA380F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clomatic Complexity - 1</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surement of cyclomatic complexity by McCabe was designed to indicate a program’s testability and understandability (maintainabi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classical graph theory cyclomatic number, indicating the number of regions in a graph</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76C844-F927-448D-B6A2-7A6BB9A1A1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clomatic Complexity - 2</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pplied to software, it is the number of linearly independent paths comprising the progra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such it can be used to indicate the effort required to test a progra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the paths, the program procedure is represented as a strongly connected graph with a unique entry and exit poi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9613CF2-A1AA-45BE-B3F3-948BFBD642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s - 4</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s also serve many different measurement types</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lines of code measure the value of the rate of delivery during the coding phase</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s measure the value of the entire deliverable from a productivity perspective, a quality perspective, and a cost perspectiv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21814C-4A81-4929-8E9D-443F427B15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clomatic Complexity</a:t>
            </a:r>
            <a:endParaRPr b="0" lang="en-US" sz="4400" spc="-1" strike="noStrike">
              <a:solidFill>
                <a:srgbClr val="000000"/>
              </a:solidFill>
              <a:latin typeface="Arial"/>
            </a:endParaRPr>
          </a:p>
        </p:txBody>
      </p:sp>
      <p:sp>
        <p:nvSpPr>
          <p:cNvPr id="205" name=""/>
          <p:cNvSpPr/>
          <p:nvPr/>
        </p:nvSpPr>
        <p:spPr>
          <a:xfrm>
            <a:off x="1676520" y="2362320"/>
            <a:ext cx="575136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 V(G) = e – n +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G) = cyclomatic number of 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 number of ed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 number of node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4C7B802-ACA1-438F-BA8B-DDBA1B5522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Control Graph Example</a:t>
            </a:r>
            <a:endParaRPr b="0" lang="en-US" sz="4400" spc="-1" strike="noStrike">
              <a:solidFill>
                <a:srgbClr val="000000"/>
              </a:solidFill>
              <a:latin typeface="Arial"/>
            </a:endParaRPr>
          </a:p>
        </p:txBody>
      </p:sp>
      <p:sp>
        <p:nvSpPr>
          <p:cNvPr id="207" name=""/>
          <p:cNvSpPr/>
          <p:nvPr/>
        </p:nvSpPr>
        <p:spPr>
          <a:xfrm flipH="1">
            <a:off x="3581280" y="1905120"/>
            <a:ext cx="6098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267080" y="1905120"/>
            <a:ext cx="83844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4495680" y="3048120"/>
            <a:ext cx="6098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505320" y="3124080"/>
            <a:ext cx="8380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3809880" y="4191120"/>
            <a:ext cx="6098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495680" y="4191120"/>
            <a:ext cx="83844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4724280" y="5334120"/>
            <a:ext cx="6098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733920" y="5410080"/>
            <a:ext cx="8380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039920" y="1565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6" name=""/>
          <p:cNvSpPr/>
          <p:nvPr/>
        </p:nvSpPr>
        <p:spPr>
          <a:xfrm>
            <a:off x="3246480" y="2819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7" name=""/>
          <p:cNvSpPr/>
          <p:nvPr/>
        </p:nvSpPr>
        <p:spPr>
          <a:xfrm>
            <a:off x="5074920" y="27432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18" name=""/>
          <p:cNvSpPr/>
          <p:nvPr/>
        </p:nvSpPr>
        <p:spPr>
          <a:xfrm>
            <a:off x="426888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19" name=""/>
          <p:cNvSpPr/>
          <p:nvPr/>
        </p:nvSpPr>
        <p:spPr>
          <a:xfrm>
            <a:off x="3492000" y="51055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20" name=""/>
          <p:cNvSpPr/>
          <p:nvPr/>
        </p:nvSpPr>
        <p:spPr>
          <a:xfrm>
            <a:off x="525924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21" name=""/>
          <p:cNvSpPr/>
          <p:nvPr/>
        </p:nvSpPr>
        <p:spPr>
          <a:xfrm>
            <a:off x="4481640" y="6137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EE89728-2C51-468C-A123-63BD61F14D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clomatic Complexity - 4</a:t>
            </a:r>
            <a:endParaRPr b="0" lang="en-US" sz="44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have seen is a control graph of a simple program that might contain two if statements. If we count the edges, nodes, and disconnected part of the graph, we see tha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8, n = 7</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at M = 8 – 7 + 2 = 3</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M is equal to number of binary decisions plus one (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97B251-DB92-4B7B-AFA3-4E5F671B93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clomatic Complexity - 5</a:t>
            </a: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yclomatic complexity metric is additive. The complexity of several graphs considered as a group is equal to the sum of the individual graphs’ complexities</a:t>
            </a: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t ignores the complexity of sequential statements</a:t>
            </a: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ric also does not distinguish between different kinds of control flow complexity such as loops versus IF-THEN-ELSE statements or cases verses nested IF-THEN-ELSE state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1C6F8E-520D-4648-A41E-C229B5D2C1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clomatic Complexity - 6</a:t>
            </a:r>
            <a:endParaRPr b="0" lang="en-US" sz="44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ave good testability and maintainability, McCabe recommended that no program should exceed a cyclomatic complexity of 10. Because the complexity metric is based on decisions and branches, which is consistent with the logic pattern of design and programming, it appeals to software professiona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C2012A-9EE0-4BD7-B37A-D40D91EB61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clomatic Complexity - 7</a:t>
            </a: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experts in software testing recommend use of the cyclomatic representation to ensure adequate test coverage; the use of McCabe’s complexity measure has been gaining acceptance in practition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B4203A-912E-4FCC-9143-7292E7324B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Complexity - 1</a:t>
            </a:r>
            <a:endParaRPr b="0" lang="en-US" sz="4400" spc="-1" strike="noStrike">
              <a:solidFill>
                <a:srgbClr val="000000"/>
              </a:solidFill>
              <a:latin typeface="Arial"/>
            </a:endParaRPr>
          </a:p>
        </p:txBody>
      </p:sp>
      <p:sp>
        <p:nvSpPr>
          <p:cNvPr id="2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rm is similar to “cyclomatic complexity” with an important difference. Before calculating the essential complexity level the graph of program flow is analyzed and duplicate segments are removed. Thus, if a module or code segment is utilized several times in a program, its complexity would only be counted once rather than at each inst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ACBF3B-7F1A-427E-A4B8-A8DEDD8F08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Complexity - 2</a:t>
            </a: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essential complexity eliminates duplicate counts of reusable material and provides a firmer basis for secondary calculations such as how many test cases might be needed. This form of complexity is usually derived by tools which parse source code direct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BBDB6E-0A0D-4A42-829C-FF417DFBC1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59B3CF-4161-4570-944B-DEAAF7DCD9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s and Models in Software Quality Engineering by Stephan H. Kan (Chapter 4.1.4 and Chapter 10)</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Metrics: A Rigorous &amp; Practical Approach, by Norman E. Fenton and Shari L. Pleeger, 2</a:t>
            </a:r>
            <a:r>
              <a:rPr b="0" lang="en-US" sz="3200" spc="-1" strike="noStrike" baseline="30000">
                <a:solidFill>
                  <a:srgbClr val="000000"/>
                </a:solidFill>
                <a:latin typeface="Arial"/>
              </a:rPr>
              <a:t>nd</a:t>
            </a:r>
            <a:r>
              <a:rPr b="0" lang="en-US" sz="3200" spc="-1" strike="noStrike">
                <a:solidFill>
                  <a:srgbClr val="000000"/>
                </a:solidFill>
                <a:latin typeface="Arial"/>
              </a:rPr>
              <a:t> Edition, PWS Publishing Company, 1997 (Chapter 7 and Chapter 8)</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F4146A-A353-47F3-AC38-28EF3A890C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Industry Software Measures</a:t>
            </a:r>
            <a:endParaRPr b="0" lang="en-US" sz="4000" spc="-1" strike="noStrike">
              <a:solidFill>
                <a:srgbClr val="000000"/>
              </a:solidFill>
              <a:latin typeface="Arial"/>
            </a:endParaRPr>
          </a:p>
        </p:txBody>
      </p:sp>
      <p:graphicFrame>
        <p:nvGraphicFramePr>
          <p:cNvPr id="117" name=""/>
          <p:cNvGraphicFramePr/>
          <p:nvPr/>
        </p:nvGraphicFramePr>
        <p:xfrm>
          <a:off x="685800" y="1981080"/>
          <a:ext cx="7772400" cy="4114800"/>
        </p:xfrm>
        <a:graphic>
          <a:graphicData uri="http://schemas.openxmlformats.org/drawingml/2006/table">
            <a:tbl>
              <a:tblPr/>
              <a:tblGrid>
                <a:gridCol w="2590920"/>
                <a:gridCol w="2590560"/>
                <a:gridCol w="2590920"/>
              </a:tblGrid>
              <a:tr h="812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Points / Effor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points per person month</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vene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Points / Duratio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points per calendar month</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s / Function Point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 per Function poi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 / Function Point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per Function poi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514999AF-F7D3-4BE9-ACDA-7EC381D97C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s - 5</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 point can be defined as a collection of executable statements that performs a certain task, together with declarations of the formal parameters and local variables manipulated by those state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ction points were proposed by Albrecht and his colleagues at IBM in mid-1970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33008C-A06C-4A13-8321-A2A058E49A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s - 6</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ddresses some of the problems associated with LOC counts in size and productivity measures, especially the differences in LOC counts due to different levels of languages us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weighted total of five major components that comprise an applic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13B6AD-65BD-49A1-B311-55B4E27ACC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s - 7</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five components ar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external inpu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external outpu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logical internal fil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external interface fil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external inquiri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8CCEDF-6901-4E87-AC19-D8DAC74DFB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9T09:03:09Z</dcterms:created>
  <dc:creator>Ghulam Ahmad Farrukh</dc:creator>
  <dc:description/>
  <dc:language>en-US</dc:language>
  <cp:lastModifiedBy>ahmadmohsin</cp:lastModifiedBy>
  <dcterms:modified xsi:type="dcterms:W3CDTF">2009-07-24T07:34:37Z</dcterms:modified>
  <cp:revision>215</cp:revision>
  <dc:subject/>
  <dc:title>Introduction to Quality Metrics - 3</dc:title>
</cp:coreProperties>
</file>